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6F7-5E73-4916-9B38-94491893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075-B907-4AAF-A871-83D4B7B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19E6D-FD2F-405D-BAC0-9E8D2BA1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5867F-533A-48C4-9CBB-EC8BB0E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3640C-CD12-4DDB-BCF7-6EC38B2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9C946-5B1C-41E5-93FB-4B937BE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DA74D-53A5-4B63-9A43-5E9262B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01B28-9CE1-4784-9815-1153F09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E3F0D-4FA1-442E-B666-3E8A08EC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989E-073D-46D7-A662-00C038A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5D06-B339-4E57-B6E0-71BA8BF1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DD35C-FB1D-44B8-AEC3-3CE2A50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912-F299-4FD2-A34B-F5D4FE77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7A334-F29F-4A1C-A754-04EBDB28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113F8-995B-4B18-AB69-F85DABA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DE9C6-FCFD-4C12-B3F6-271BFAD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6B7F7-2065-4EE1-B1D3-01F35855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070AF-35A1-4925-96F1-8504516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C25A-53ED-4570-831F-A30E413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DAB2D-A2F7-43D9-BF32-26D5E5C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4A06A-EEB1-4777-B9A2-6405A81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1E72F-F2C9-4402-BBBF-FEE65F9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AC101-FC8F-4964-B8A7-6D06ECA8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650-A62D-43F5-80FF-DDCCB34F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23D97-FA63-4A15-AFF3-8DC37FCA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2A02-F708-42DF-B38E-8EA47976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1674F-DE2E-45D2-BC1A-287BD056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7E92-7522-4A66-A11C-E39C216F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ABEB-8F53-4814-AD73-FF51C37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83642-79D4-449A-ADDD-F1A21DF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247C4-F21E-4823-9D6B-114E80B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73CC7-C33D-40E9-863C-92DE1D0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39885-0CC5-44E0-9210-00B1FAC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AC3AC-DE2F-4CBE-8F86-6ADA3A4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FE8D-D3AB-42BD-866B-F22A804A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C546-B025-43BB-BFD6-4A4935C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CEF09-F962-401C-B679-E2E5F38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DD84-C5A6-4916-A1EE-B3962EE5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6F317-682A-4F2A-A190-41F023C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ED3D4-57D8-4765-B5A0-EF6385BB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ADB27-4B32-4E8E-B4BB-435DF30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2EE74-5A61-4164-A044-FAD8ED68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1D299-075C-44AF-9C37-7D3C8FD9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32FC-FE83-4645-BFEE-26DE42C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627D9-45D9-4634-AE56-96FBFA6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ABBC-90AD-4DF3-93CA-E0715BF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2F4D0-184D-4224-8172-03711C8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35B4B-1B64-427F-B6AE-2D887ED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29985-32E8-48C6-8967-452B9F2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C90C-0BE8-4062-8875-EB326ACF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1620E-EEE5-49D7-92D9-8EB6C978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27D6F-9C40-48BC-B83C-88E637D1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EDF75-4EAF-482E-BE11-601203C8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CA73A-BB9C-4087-95E4-7FE555AD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EA608-6407-4BF7-9547-6051CC4D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EEFAC-DF0B-454B-A535-EC59B3A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E9D9-6BF0-4ACC-B1B8-9C0C345F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4B00B-BF57-4E7B-8C63-872046D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4B56C-6599-4EDA-BF8C-B8FF733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1DAF0-668E-4461-8241-0804239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7C5F1-CBF6-4721-8099-8A59E56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1EE8B-A095-449E-B968-C63F4AF2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62F8F-023E-47AC-9933-6EBFC42F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CA102-2E9A-4575-9147-9E5AE0E2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F2F07-B8BA-4074-852C-D5FFED67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0DB88-9760-497A-83E8-52C7E99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ABDF7-17D5-4AD1-80BF-28B0EE15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6C7A-AD4A-4603-943D-5846BFBD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D8DD6-9591-46C5-974B-C65A1E25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25D2A-3BE8-4EFF-8006-A4F7290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FD4B6-B674-4B56-AA25-95A9D52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946BE-D1DC-402A-AB07-C06E64B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71A24-A05E-4E4A-B285-E88FD44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FA570-8670-4829-8F64-CB250C7B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BA3CD-D07B-4479-92BB-4B01786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69310-FE8A-4287-935B-B46895F8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4AE7B-F697-4D17-807A-72C90223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211ED-F245-48E9-956F-372152B4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F8C-1279-46F4-99C3-8FF215F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471B5-C60C-43D4-8447-3B424AF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78AFB-D4AA-4383-A377-12071684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70867-6F40-4AA9-8299-4493D700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70F86-5FFB-4F04-B3D0-3EB01A3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CDF22-58B2-4CAD-936B-54D0264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F828B-AFF5-459C-9F70-54C62C0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30AF4-AD84-4A57-A64F-A2B2DBF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8B3A1-B393-496D-AB6E-42CC61C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D4BB6-C139-4196-B093-39348E4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1853F-3187-40CC-BC76-9F26112D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179D-D4BE-465E-9A93-D65ACBA5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F21AF-3F5A-4785-A35A-677E7F5C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71AB4-AAFE-45EF-B068-82D150A0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DEE80-806C-4EA9-BDA1-F0F66A1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E8DF0-E18A-4590-B491-D80B828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6D0F1-3344-4560-84E3-97BA4147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D8C9A-8E32-46F6-94D3-48940FC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65A5B-BB74-45B6-8AFD-CBEB434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569B9-C08B-4510-996D-8C4333B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42634-08BF-4671-BD23-AD8A35A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9ABB7-6064-49F6-A587-EBA4BAA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3672-82BA-40EA-9A4C-4FBC26B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AA0C6-271B-40F1-A52C-D318CBB4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00614-B7F0-4018-9636-C9EA643D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655FE-C249-41BE-8DDC-2977DD08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438C9-51CA-486A-AC8B-F08D251A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D271C-BB50-46C6-A694-138B5225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CBA0E-0301-473F-897A-30DE9154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913BC-E7D8-464B-9D32-6C46185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7B6C6-DD65-49B4-8EC9-6D684E4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7F14A-E7E9-451A-8F83-BA137C00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79F4C-DC6D-46B4-A200-6CC38D9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693-8A38-40B5-869E-8B41253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FE2-D76C-4A94-AA59-A985657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CA00C-A4E3-495A-99D8-64445A1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D3A17-91B2-4D03-8B7B-A92375F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693D5-F7EA-48EE-A4DC-C6764D7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B8BCB-24F7-466D-824B-C43659A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A6BE4-BF1C-493D-B039-7C9B8C43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B9B7D-338A-479C-93D5-19688CB8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DB469-CBE4-4762-A987-231F658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1B386-C7F0-4E6B-9090-A73BCF00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9FD79-9D41-421F-BD79-5A983F5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B8E8F-C3BF-4A0A-9758-1633532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BC35-FD72-4692-8669-4FA13EC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ACEBC-D0FC-4080-A59B-0494EBB9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A9C3F-3587-4812-9C47-EAFF6D6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99C27-D047-439C-8876-8B3609E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B52EE-26CA-4C22-B75A-53E0D35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DEF85-671D-4566-8EF0-24A4B94F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826A9-B511-4FA4-A874-EA2C68E4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F9993-BEAA-4E91-9CE6-209BF2DF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B5B9C-0A61-427D-A811-8ECEB851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A6DC9-6CE3-41C6-8786-10EB392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8CCFD-E459-43E9-9A5C-D712D6E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08B4-032B-457A-8344-E461240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0A3E4-4F96-4D8D-8B90-78374CC9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AE193-1046-45EE-9C72-68D9227A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CFCEF-D59C-4C69-840E-760A86C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91F50-1691-4FE9-873B-F4F5637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D87EB-5F61-47FE-BD9C-398ABE6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6D779-84F9-4F7D-B356-592E9CB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58838-9675-4DFB-AA24-CD3CF30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0FD00-E64E-4D88-BA21-B65321DE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A4981-CAF0-4CC7-921A-F609D5BA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C532B-BD16-4A12-AD14-0CDA2622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492-C6CD-4653-B16E-C5FAB65E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A5DC4-926E-45ED-B284-87B289C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EBFFB-146A-4326-9A86-EEDF7022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64D85-ECE1-4CAD-9913-34FE80D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1DADB-ABF7-4B5F-95B2-4C3C67B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DCE3F5-6240-442F-A97E-FF5B337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56358-E700-4C24-9F20-2529D9C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7B37D-3F29-4633-A108-940E6053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095B7-DA73-4B7D-96C1-98FC397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9CEEB-EB90-4E01-B71E-4371C4B7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893A8-D1B9-41A5-A207-91539756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E84F-1859-4457-983D-EADDAAF8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41871-05E9-409E-8680-0458BF2A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09B5C-4289-40DE-899B-B2CA0AF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9C889-6E38-4733-83E6-69C3EC51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6333B-7B10-4EB7-8D44-E6BE4A8E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79529-DE3C-49AD-ADDD-504F924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EB8A6-3881-4159-BD9D-A653BFA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098A1-4606-4332-A285-CE495A16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CD75E-A078-4CE9-834C-CAD9091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22032-2D1C-4B3C-AFAC-7CB6230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A4264-A3BD-49B8-86CE-BD5AC9AB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BFE0-593B-4308-9853-2A49F9FD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22D6F5-F78E-4F71-AD95-3D240BB5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56D43-3EED-41C1-8FA4-9276573A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E7B8B-52E6-454C-9C9B-A737A6D5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1409-E60F-4E5A-B6DB-4DE20EA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F3D8-2A0E-4916-A036-737F852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4405-31AA-4F2E-B0C3-DE8E208C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5AFA-2D61-494A-B984-49E6FB9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4B5-181C-4E17-9B1F-407EC04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01FA-F5B1-4025-B5BC-1F56F4EE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62FA-8E85-44CE-A545-65142F1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62E1-54C4-4EBB-BE36-6F9A63E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D61D-14E1-4F17-B2E1-DCA7BC6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1DA1-FEC0-4EA1-AAA6-01AD973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8B0E-CB39-4F2B-9E91-86A43E57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BD71-D397-41EB-B348-82008563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77E1-32B1-4FAE-BD69-8C0F51E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6B9A-2607-4ED7-82D0-6E6A8FD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6FA7-98E9-4362-B332-74D8071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CFF-FC9D-41ED-86DE-B9D4438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9B80-E9B2-40F0-A1C6-5B98CCF2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BB8E-287B-4753-B29A-27A462B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1178-9C31-4BD1-B6CD-560BC70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95CD-FC3F-4C55-8B62-8F4155E3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FA85-4E60-4502-B810-3C79C6D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3812-BBA1-4DD7-A009-B7554DF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CB7A-F28A-4F49-ADE3-89634747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3E12E-193D-4A45-A6CA-59CA1792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B092-6BB2-41E5-9E4A-1496DD0A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3B03-1A26-4E2D-A483-54F99560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3B0-0F11-4D23-9948-94337CF9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CA4E-D84C-4533-90E4-3B41F93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DC08-7EE9-45EB-8374-2D277BD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897A-BB3F-409A-A847-086F433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687B-1DBE-45EB-A733-246D800D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DCC0-02DE-4D37-83A7-C5726B5D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7D0E-2888-4734-BF5F-D0449E3D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5193-DCE6-4D33-818E-0E70144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9402-CCA2-4105-AF12-D38FF05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F091-A4C0-478C-82D9-E9AF4C29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85BA-FD4C-4D59-BC84-0361AC42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000-FEE1-414E-B182-21F432A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99B67-5DE9-47AE-80A6-F815F99A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1A5A-4363-4956-86E3-BA89177A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F20AB-6160-4D07-A93E-CF495FF9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3595-E6DB-40B7-8BFE-965D22D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8282-92DA-4D3F-BE30-F811164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472D-A3FB-47F8-988A-62CCD7ED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7016-D666-4285-91CE-0CD577B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1382-FB0C-4C0B-BCB0-8C194F4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778D-55A1-4E73-A3F4-5140EAEB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5573-A845-4BFE-A3EC-1B80A12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DFB-75B2-4788-A379-7932ACB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2FBA-3621-4308-9B93-554FD9F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5FD0-6665-4319-AFE3-BC218B6D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7015-430F-4C16-A04A-D750353D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A321B-E451-42F2-9FB5-11C4FB06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C9E5-EFD0-4AB7-B1C8-6E34056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8084-1734-4149-BF2F-B8FE9EA6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CC5F8-46F2-448D-89A8-7587C51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5E3D-A47C-465D-9876-9DA944E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B5EF-7BC5-4325-A5D9-C9F7B96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5014-843A-4FE0-9537-07F9ECC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F30-441F-47E0-A03B-F353B89D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2199-4616-4F3C-AE19-EEAE989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856F-28A3-4401-BE1A-009E06D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1E30-9396-42CD-B0C6-0225C3B1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22EA-B394-4AC9-9EFC-23D5519E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3692-A6AC-4B31-B861-3C21878C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6082-6F33-42B5-B5AA-D278D0A8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4E37-9B59-46B5-B0A8-18EC9B7F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0C96-3F77-46BE-8FCA-4F685853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AA447-C4C7-43D9-808E-07EC209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5460-227C-461C-BF58-F6D7D68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FD2-DCD7-4A36-8076-146F394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E87AB-61CB-4CB4-9EBA-4341C74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AC52A-B349-45CC-AE1F-732CAF4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DF3C9-EBA9-4C17-96C5-9D7D0CF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1023-E5B0-4A5B-AD6F-AB4852B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96A64-5480-4494-8CCE-F22C7B21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A8A5-3632-4AE3-8A25-B1BCF9DC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151A-7BCD-4889-91DD-D0173395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6ECFB-4686-4F13-B701-1ABBD3EB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F71E9-5555-4391-AAC4-B82C6F2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CE67A-667D-4219-9647-0FF9DF7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860C-30CF-4594-A247-1AC3BE1E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B90-1516-48C7-A25D-F17C41E06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155-D19F-408E-B8F8-2BB099044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DADD-1CC1-4BA5-91F8-FD99DD737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527-5DE2-4FEE-841B-115460633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D2B-C16C-41C0-B46B-987CD2717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6F4-3BCB-4744-93D5-AE8D164C9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FD1-8432-4DAF-9B48-A7FDC419A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2BF-50FB-454A-AA21-2E81E2C59A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B1F-B793-4C04-BB97-497F26128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8A9-BB9C-4FBB-91FD-FCDBFFA18C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0E5C-6993-45D2-A4C6-F43A40AA4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C19-C57F-4DF1-848D-92B3AA966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653-D507-45EE-B976-648C26A39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3E1-BBB1-41CD-B983-D0B7CA983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4B9-9BB6-41D4-81D3-B073F07E9F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520-16F0-4459-8C7F-B337B16BA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21A-4722-48AF-8BE5-76A801FACF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F969-2CC7-4B17-8ECA-255ADF6DD4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2CD-55F7-45A5-9C2E-C0CBD2221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23E-98FE-4745-893C-F54589BD1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C90-9822-4AD3-B1E5-AD967DC7C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DCC-C202-488F-B2DD-178A669108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9E98-FAC6-43EB-AD86-16CFB17EA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0DBF-717A-43C7-B7BB-AFE1D849D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8305-61A9-449F-9307-3E224764E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1CA-56F0-45AC-898C-839001F1E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6A9-89EF-4841-829A-4A442015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BCC-9007-48C3-84D0-E47D23B88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B53F-C0D7-460E-A21E-71130E82E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CC6-447A-4783-8E62-62F56FAD1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7E98-E006-499E-BDB7-5DC77E49A2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D4F-0B90-404B-B6B5-140A163A94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E77-F5F7-4F91-B67C-7C92ACA6F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1BD-7CC3-404D-9719-8FDFEF6B9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A19-285E-4F44-ABD5-03475CBA3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CA0-D28D-47D5-9B5B-8E00767F1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692-562F-4BC3-8071-CB749054E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493-6F03-467E-B5B4-D610A7AEA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5AD-A950-4A7C-AC33-96D09A8A81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3255840"/>
            <a:ext cx="878688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471600" y="1414440"/>
            <a:ext cx="82008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562880" cy="4162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33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3"/>
          <a:stretch/>
        </p:blipFill>
        <p:spPr>
          <a:xfrm>
            <a:off x="1692360" y="414972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4"/>
          <a:stretch/>
        </p:blipFill>
        <p:spPr>
          <a:xfrm>
            <a:off x="1619280" y="4951440"/>
            <a:ext cx="2305080" cy="438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5"/>
          <a:stretch/>
        </p:blipFill>
        <p:spPr>
          <a:xfrm>
            <a:off x="5570640" y="2565360"/>
            <a:ext cx="2303280" cy="438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6"/>
          <a:stretch/>
        </p:blipFill>
        <p:spPr>
          <a:xfrm>
            <a:off x="5580000" y="3360600"/>
            <a:ext cx="2305080" cy="438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7"/>
          <a:stretch/>
        </p:blipFill>
        <p:spPr>
          <a:xfrm>
            <a:off x="5518080" y="416412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8"/>
          <a:stretch/>
        </p:blipFill>
        <p:spPr>
          <a:xfrm>
            <a:off x="5456160" y="4951440"/>
            <a:ext cx="2654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4720" y="1252440"/>
            <a:ext cx="8134560" cy="4353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857240" y="4786200"/>
            <a:ext cx="2467080" cy="809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715000" y="4786200"/>
            <a:ext cx="2467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3" descr=""/>
          <p:cNvPicPr/>
          <p:nvPr/>
        </p:nvPicPr>
        <p:blipFill>
          <a:blip r:embed="rId1"/>
          <a:stretch/>
        </p:blipFill>
        <p:spPr>
          <a:xfrm>
            <a:off x="938160" y="1924200"/>
            <a:ext cx="7267680" cy="3009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571760" y="4071960"/>
            <a:ext cx="2466720" cy="809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5429160" y="4071960"/>
            <a:ext cx="2467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096400" cy="55814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431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809640" y="1247760"/>
            <a:ext cx="7524720" cy="48960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403280" y="38545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804960" y="1276200"/>
            <a:ext cx="75340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1243080" y="1519200"/>
            <a:ext cx="6657840" cy="38196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3564000" y="223524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5580000" y="223524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3780000" y="2884320"/>
            <a:ext cx="1296720" cy="438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5"/>
          <a:stretch/>
        </p:blipFill>
        <p:spPr>
          <a:xfrm>
            <a:off x="4572000" y="354636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6"/>
          <a:stretch/>
        </p:blipFill>
        <p:spPr>
          <a:xfrm>
            <a:off x="3892680" y="420048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7"/>
          <a:stretch/>
        </p:blipFill>
        <p:spPr>
          <a:xfrm>
            <a:off x="5775480" y="4205160"/>
            <a:ext cx="129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53240" cy="5324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2987640" y="2606760"/>
            <a:ext cx="129708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2916360" y="392760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2916360" y="5222880"/>
            <a:ext cx="1295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71880" cy="4533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3193920" y="1422360"/>
            <a:ext cx="1295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2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